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1EF491F8-25C3-4C0E-A79C-E7E9140B3337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0FC3404-40B9-4DF5-848F-E73AD1EEF499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17A-22BA-4E75-95E1-0369BBC7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C8F-81BB-4B85-A6E6-BC89AE47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CB0-A615-4531-82B2-FEB9F521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0A2-8D59-45E0-9E10-79C61EC1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FAA-6E02-4966-95BE-27AC8AA7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8EF-EFDD-4C11-8F06-E54A9D70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0FF-6A3A-49DA-AC63-C54B0D42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80C-9CB6-4BBE-8279-44CDFB59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C15-3390-449B-BE80-31A67DB1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876-9970-49DF-950F-40CAE9F7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C90-60BD-42A8-8DE5-E7F421D3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8D5-673C-4BDD-AD33-09DBA08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9407-9695-4910-BDB3-B6FB6EE9E96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aracterísticas do Lix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50920" y="184464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ida deverão ser escolhidos cinco recipientes de capacidade e pesos próprios conhecidos (tambores vazio de 200 litros usados para armazenar óleo são ide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rão preenchidos até a borda com o lixo do “quarto” selecionado. O recipiente cheio de lixo passa a ser o elemento básico de estudo. Através dele é possível ob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51280" y="435780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peso especifico 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50920" y="5106960"/>
            <a:ext cx="8353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so líquido de lixo (em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Específ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líquido de lixo (em Kg) / Volume total dos latões (em m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Líquido de lix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total dos latões cheios - peso próprio dos latões vaz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50920" y="249228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pel e papel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lást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uro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no e estop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lha, mato e galh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 orgânica (restos de comi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ferro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não-ferroso (alumínio, cobre, etc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louça, cerâmic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50920" y="270504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regado fino, isto é, todo o material peneirado em malha de uma polegada (1”) e de difícil catação, composto de pós, terra, grãos de arroz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seguida, deve ser determinado o peso de cada um dos materiais sepa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nalmente, através de regra de três simples, será obtido o percentual em peso de cada componente ou seja, a composição gravimétrica do lix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2"/>
          <a:stretch/>
        </p:blipFill>
        <p:spPr>
          <a:xfrm>
            <a:off x="5911920" y="2781360"/>
            <a:ext cx="3052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55240" y="1994040"/>
            <a:ext cx="263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teor de um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2200" y="269568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defini-lo, é preciso começar separando uma amostra de até 2 kg de lixo de um dos tambores. Essa amostra será levada a uma estufa, onde deverá permanecer até alcançar peso constante (24 horas a 105°C ou 48 horas a 75°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resultante deverá ser pesado. Uma regra de três simples determinará o teor de umidade do lix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omeçar a pensar em um serviço de limpeza urbana é preciso identificar as características dos resíduos gerados, pois a “cara” do lixo varia conforme a cidade, em função de diversos fatores, como por exemplo, a atividade dominante (industrial, comercial, turística, etc.), os hábitos e costumes da população (principalmente quanto à alimentação) e o cl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8" descr=""/>
          <p:cNvPicPr/>
          <p:nvPr/>
        </p:nvPicPr>
        <p:blipFill>
          <a:blip r:embed="rId3"/>
          <a:stretch/>
        </p:blipFill>
        <p:spPr>
          <a:xfrm>
            <a:off x="2050920" y="3659040"/>
            <a:ext cx="5040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idades se transformam sem parar. Dentro de uma mesma comunidades, as características vão se modificando com o decorrer dos anos, tornando necessários levantamentos periódicos visando a atualizaçã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a três áreas principais a investig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12200" y="3789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416160" y="476568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410760" y="57261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0920" y="233208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osição gravimétric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raduz o percentual de cada componente em relação ao peso total do lix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6084720" y="260280"/>
            <a:ext cx="2762280" cy="3105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250920" y="3657600"/>
            <a:ext cx="856908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eso espec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é o peso dos resíduos em função do volume por eles ocupados, expresso em kg;/m³. Sua determinação é fundamental para o dimensionamento de equipamentos e instalaçõ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or de um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ta característica tem influência decisiva, principalmente nos processos de tratamento e destinação do lixo. Varia muito em função das estações do ano e da incidência de chuv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0920" y="2340000"/>
            <a:ext cx="85690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ressibil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ambém conhecida como grau de compactação, indica a redução de volume que uma massa de lixo pode sofrer, quando submetida a uma pressão determinada. A compressibilidade do lixo situa-se entre 1:3 e 1:4 para uma pressão equivalente a 4 kg/c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Tais valores são utilizados para dimensionamento de equipamentos compact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Geração per capit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relaciona quantidade do lixo gerado diariamente e o número de habitantes de determinada região. Muitos técnicos consideram de 0,5 a 0,8 kg/habitante/dia como a faixa de variação média para o Bras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213372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der calor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a capacidade potencial de um material desprender determinada quantidade de calor quando submetido à queim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11480" y="155736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50920" y="3573360"/>
            <a:ext cx="8569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tencial de hidrogênio (pH)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teor de acidez ou alcalinidade do materi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ores de cinzas, matéria orgânica, carbono, nitrogênio, potássio, cálcio, fósforo, resíduo mineral total, resíduo mineral solúvel e gord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lação C/N ou relação carbono/nitrogêni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grau de decomposição da matéria orgânica do lixo nos processos de tratamento/disposição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6"/>
          <a:stretch/>
        </p:blipFill>
        <p:spPr>
          <a:xfrm>
            <a:off x="6156360" y="981000"/>
            <a:ext cx="2543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10760" y="15573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50920" y="220500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estudo da população microbiana e dos agentes patogênicos presentes no lixo urbano, ao lado das suas características químicas, permite que sejam discriminados os métodos de tratamento e disposição mais adequados. Nessa área são necessários procedimentos de pesqu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529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50920" y="20224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aioria das cidades brasileiras não tem condições de montar laboratórios maravilhosos onde sejam feitas todas as análises como manda o figurino. Por isso serão alinhados em seguida alguns procedimentos práticos que podem auxiliar na determinação do peso específico, composição gravimétrica e teor de umidade do lixo urban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50920" y="437976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m ser selecionadas algumas amostras de lixo “solto”, provenientes de diferentes áreas de coleta, a fim de conseguir resultados que se aproximem o máximo possível da real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mostras serão misturadas, com auxílio de pás e enxadas, num mesmo “lote” , rasgando-se os sacos plásticos, caixas de papelão, caixotes, etc. e materiais assemelhados que porventura exist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50920" y="1844640"/>
            <a:ext cx="85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ssa de resíduos será dividida em quatro partes. Um dos quartos resultantes será escolhido para nova divisão em quatro partes e assim por diante. O processo se chama quarte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quarteamentos cessarão quando o volume de cada uma das partes for de aproximadamente 1 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713800" cy="199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250920" y="5896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uma das quatro partes do material será separada para anál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6:28Z</dcterms:modified>
  <cp:revision>196</cp:revision>
  <dc:subject/>
  <dc:title>Slide 1</dc:title>
</cp:coreProperties>
</file>